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1.jpeg" ContentType="image/jpeg"/>
  <Override PartName="/ppt/media/image9.jpeg" ContentType="image/jpeg"/>
  <Override PartName="/ppt/media/drumroll.wav" ContentType="audio/x-wav"/>
  <Override PartName="/ppt/media/image3.jpeg" ContentType="image/jpeg"/>
  <Override PartName="/ppt/media/image15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0.png" ContentType="image/png"/>
  <Override PartName="/ppt/media/image27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1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AD0-D5FB-4B66-BA1C-408F44CD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6E3-0A26-4EE9-AC16-711A350F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9ED41-3508-4A65-BE7E-A3B86557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20D44-D677-46A1-860E-E8FFA5FF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9F5A0-75BB-4FFB-82F6-9AF84963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031A2-14D6-4019-9D64-DA7465BD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98BA2-77A8-4FFA-B2FE-EC918ACA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FD680-C022-40CD-BEA9-13CE4D72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73411-D595-48D5-99CA-4C00EF35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C34BB-62D4-4EDD-A312-9604A32E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16BBC-F4FB-4959-817F-8A45F7D3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72BAC-02AE-4348-9133-6613A1B3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6E0-BFB7-4DEE-87B5-28514133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2E44D-DC4B-4FE5-8715-85A29CBD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6215F-0B09-4644-BD68-52164AAF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A624A-60C5-4975-BA1F-E1B70FD9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B04AA-936C-4F50-BE26-106F31BF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827C1-04C2-497B-84FE-2146411B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9A264-CAFE-4C6C-8CA6-8D2FE0DF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9E3F6-44A6-4F73-B07C-A4C27D5B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036BF-E2C9-4099-8DFA-9E694724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3D70D-21CC-411D-9328-EAA31395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9ACE6-C14E-40F5-8869-AEE5F65C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428-FBF3-4B28-91BB-9BBEF971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F1496-7F0B-4F29-A245-823650ED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90215-406A-4098-9CCA-1502DD75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73EEB-B4CC-4F24-9350-ED32A202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FB889-077C-412B-8ED3-996E8E3C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06075-82A9-4B51-BE99-19FD4B09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06D15-3677-4257-8D5A-250ED1D9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BD15B-E5E5-4814-8ADE-EF1FC39B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729F8-0015-425C-BE66-467A9BD6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1C407-6D81-4D49-918A-B8AB456A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476EE-04E5-4190-899D-F9DCA5EF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9AB4-2ED7-4CE1-A3C6-A78D3A87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E5A6B-84B7-4830-8791-0804E894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335CD-BD40-4830-B850-7951700F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7A1E7-3A51-4026-842C-AC3D642B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158DD-FFEF-4CDC-B55F-A31D4489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26147-CBC7-4500-BF51-77D894AC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A8901-887C-4A2A-9B31-34B88FBA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66C4E-D92A-4209-A0A1-743BA44E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BC220-1D68-46C0-84C5-70CE82A9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B9E6A-B345-4D93-ADE5-B481D3B6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47453-51AE-41E0-BC9A-1B6288EB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193E-8075-46E5-8228-A85D6F87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5B7B3-1970-4C9A-BA4C-6DCB34D0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A94B4-9281-4F41-AE52-A6FFE117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5CE62-FDCF-4FA5-9C83-34D408A6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24EAB-B7ED-4D19-8A13-A35961C9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E7B91-1FED-4228-A909-822E4FD5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64379-65D8-42AC-A286-4FAA837B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7F45A2-BE38-42C1-A49F-343C6B55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81AE9-E682-4BFC-B7E2-B31C8A68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FC00B-9F53-4D70-B445-DB1CF129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2BD28-B7F9-496F-8F01-6DC9C637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C9EA-A34F-4C5F-BA1B-51FAD44C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03577-E0B7-4C7B-B42C-3EA25AED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0E20A-2311-493E-8C0C-D51F5170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91AA3-75F6-45C5-A913-FECA7290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8ED94-72F4-48BC-9CCD-2CD97646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08BA0-D125-4342-85C4-54685D6E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7684F2-092D-4141-B73F-E0384AE5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48D9E-2ABF-4563-A8CB-0A8A435A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4E0D4-4773-4EE1-A85E-3190D7D0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C0C98-EA28-4563-907E-C430BFF8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AB00A-118C-4C2D-A966-5E28A0F3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F621-5EF1-4990-A193-7DB31303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D9460D-C94A-46CA-88FA-703A3D59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3CD9A6-A3C1-441A-B425-889F8E4C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81845-B303-4147-92CC-C9B4325D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CA95C-C6C6-43E6-9863-0DC3C8F3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F1F3D8-2C08-4D18-AD95-6D4FAC6A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DEFEE-2D92-411C-8543-437530C8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D4D70-1846-426F-8D5E-A9242EC4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18D96-3F07-49FF-980E-10662561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3F59E-44ED-4699-A24B-3339BF72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10CB6-020E-4B77-A933-949315CF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0031-57FA-48F2-B5C6-0F373A68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90C7BC-0487-4769-B013-E2F42443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20477D-F183-477F-A940-3FEC5ACF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129B85-FC5B-4643-86A3-81AFD5BE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9AD7F-CD56-4B01-A4F8-7075306D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F207B4-DC3B-4A96-8B86-E6BCB06F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FA6557-C68E-4EAA-898F-6C092D8D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D7775-4BFC-408E-9455-BFB9176C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42998-C0AA-48AA-A9B3-C9E2AFDC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5FB484-CA85-4FF1-B3B2-44E6107A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47822-3A38-48FE-9429-A1008C7E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D4C3-A395-47FA-ACA6-B410115F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3C6375-7D73-405D-82C1-C0FD1C59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E9F3B0-0725-4F83-9137-97C121F9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17307A-B5CE-41C3-9235-13B34D73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70B32E-8091-4D5C-91FC-BEA6E8D7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F9E23B-14B3-4AD2-BD5A-05ECBCA3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0EF2B8-7115-4B84-9CC4-CBF02757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7DC0A6-F53D-4CF4-8321-7C2611F2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99A94C-0158-4EEE-858B-41268F7B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CC895B-5C89-44F7-AC18-658E2E4E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95988A-52A1-4763-B827-C82CDFD2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DE43-6680-4240-AE90-2E44A7C5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321D5B-FC24-4F4F-A9C1-1D1A474E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C4BED1-0C11-4E27-BEC8-822E8995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FC1811-063E-4C68-A37A-67077DA5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3415D2-B034-4760-BDDB-952854F1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20A436-66A7-45DF-8851-A9C45143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FFE7F4-423C-481C-A82D-B3644A11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0ABC1-6898-41CA-878A-3C24E7EF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EB6146-A171-49AC-8164-F8501A77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D8A051-8839-4603-B20F-CE225FB1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1FBB5-2C7B-445F-A824-ABC5546E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BBC-FA63-47A3-9A6B-EAC27363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92DC-5217-4F23-9C3E-99A27400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420E1-A123-44BB-84E2-607FE236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963708-A718-4094-9AB5-5E286242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E51444-8F53-46E4-83F5-64F21EA1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62456-B9BF-4CCA-8420-19C4EE9B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A6749B-D65D-4B6A-BBA9-AC503052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95058C-B623-4FED-A6C9-9882C318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9A65C5-AD2E-4A29-A717-56FDE12C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F668BA-79BC-4E3D-8E8E-95C5C9B6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445894-5516-48DA-B8A3-B1A02F19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7E2136-39B4-429C-902D-DAF63C8D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D256-7D28-458A-8083-5647E647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F71F68-4DCF-4439-AECB-74386FE7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8B71DA-678D-4092-A874-0FDE2789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B1226-3A4A-499A-B9EA-B29B8EF3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57E381-DCDB-4EAB-A5D4-5A369F23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58B08F-A800-4DC6-9778-20A309DA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7F52E7-E7E3-4D5E-88A6-3B6EEA6B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83422-18A6-4BA8-BB4A-AE63F182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762F73-F357-4B0F-A2CC-F466800A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CDAC43-BB4C-4AB5-9DD1-CFDB2830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1B9295-A3C2-43EE-9A3D-12288B08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CE52-BF39-4F34-9E97-93842796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F40C73-C2EA-4F4D-86C9-BBF62109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8EF218-6D82-49A7-B406-F8863C86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268C0F-566B-47FF-95AA-ACC1DE58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1417F4-1DA3-44EA-941F-28FD8EF4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52C514-88DC-4BF4-B179-867E8809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49AABC-9609-47A7-A8E8-2B184DBA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4FAB27-1104-4FA1-B669-9A20ADF6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36F4DA-1981-48D5-B13F-F32432C6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EC8113-D86D-4EF6-BF43-71BE6444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A57CC4-25EA-435E-A235-B8D74A45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1028-6A9C-4167-90F8-5668E2C6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521139-C64C-4028-B309-9C053C74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1BBFC6-5E36-454F-8E55-B206DDE4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A75FEA-FC60-494E-96E2-3F24D390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1736C7-BD6F-4ABC-8F6C-5014A39B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89298B-B059-4F76-BCAE-3275A9D8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0F1C9-4B26-4AB8-95DF-42C17643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8DE9F6-95A5-4091-8721-C718BDE2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AAE390-60E1-4D01-B7B9-C8E30DAE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ABCF00-7750-4E8B-A6BA-D07A19AF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9DE0D0-89C0-4BC6-86EA-1AFBB7A9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E2C0-46CB-4BB5-AB0F-CDF055D0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53591A-414A-444D-81EF-BFA88190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8338AB-2124-4888-A0E0-A27504EE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0022F6-C7EA-49AA-A2B1-F1674B33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CA7D9A-597F-4DAA-915A-58097503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1D5655-199C-406E-A2FE-45F6C028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0A5F51-D33D-4022-8CE1-0997C96B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13902D-73B0-4320-A3D6-74E58A81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74A9AA-9049-4092-8F21-D873601B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D6F405-7460-48FD-AA40-C1365E1D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FE5BC8-4ED3-46A5-B187-3D7B50F7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95BEF-D58A-43EA-8725-69B09735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B2759D-A123-4DB2-8C6E-30614529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DE490E-D95C-4788-8B35-E4232B32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208CE6-9C7D-441E-8390-5C49A5E9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C4919A-1443-43D3-815A-1D3336E9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DAA264-096F-4D47-829D-B02B6ADC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E4470A-77EE-4CC8-82D2-A70D31BA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82B5A5-A0E9-44E7-9414-CA9CBED8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CD780D-831D-495A-BB35-FBD9A138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652E75-1985-49ED-8F03-377BE8EB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11AE23-D497-4BF1-87FA-07E32D75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47B04-F829-411C-B76C-53F60091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81A4A0-E911-4A3E-8F90-F836CEE7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4D317D-1377-4369-8904-0FC9C406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277D89-9D7D-4F74-B187-03A7E6A4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0A6713-9226-4AAF-ADD8-A6CAC7CC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1BA6A9-7927-4E26-9D20-4748322A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220997-C073-4CA5-8D76-8D8B2104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8C9E4C-5B79-4EF6-BE25-F59F26AA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42F28E-CC5C-493E-9F1D-6006176B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9E7281-1136-4A1E-9912-DE5A529B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C5B0A9-545E-4F9E-A379-231C76BF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27C54-BEC9-403D-8AC1-2D4ADD1B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20C3EA-8AAA-4E89-826A-C5F62D50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F7B867-3E22-41E9-A54C-2355E8EE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5EC2A5-32F1-40A1-8E1E-687F1D02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361987-8E70-4401-9664-216F1B52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6E309F-C0C1-482B-B9C7-9A358D63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A34317-C6E1-4EAC-A707-07ADC230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B87914-94F3-4128-8A73-291940FF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D24E71-2ACF-46A3-99DF-8A4568BF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1D8E66-623A-4A62-AD68-C9BC5B25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D841C4-C340-43EC-A2AB-8901FD0C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6BB1-3C44-40AF-82DC-4E049E86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A78CF7-3AE6-4BE5-B4D5-1B58821A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E4B526-5378-4C8A-BBDB-3EA488F9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9775AC-1D3C-4257-A2F7-675F95E3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41AE80-7AB9-43B1-A427-BE60028C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669B81-2631-4F73-9C5D-97B1F69A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59E637-DE55-4157-BC16-0A75F221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A977EB-2A69-43B3-8CF3-415C3574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11CAF3-8047-46CE-88AD-80C73748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37EB8B-D51B-4540-BC6A-0840C1FB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46D363-1AAB-4040-8F4A-A8F9912C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8DB52-FDE8-4DEE-8D62-8FE64D05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E07156-6DDA-4761-9615-743FDB59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4CBE06-6E85-413D-93D6-DBFD8D7F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FC05C1-B42F-468D-8FF6-540608E7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C84EF9-09F3-40BF-B4C6-6E3F930B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66A141-F678-409E-8BDD-9492F99A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0194DB-EB41-446B-A2D5-051E08C0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C705F0-CB47-454D-987F-FC462552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5159A3-1792-4FC8-BFC6-D0E30449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B4E549-69FD-4148-B52D-FB135899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20AD87-2552-420C-9AD8-1EA96FF5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1EB-A876-44CF-A53A-AF615ECB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72E5A-6491-4992-BA99-BCEEBCF5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1B8160-DC60-4C9D-B0E4-BC46A58F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FA0C5C-9472-436F-892D-F855F5D0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D9BC85-4621-4161-80C5-CE2E2874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2AF712-AB70-4033-A64E-4ADE15FB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F7C8A5-5AF2-4A08-AD87-EF49EA04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503B71-26A1-4639-8FA1-F638410E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514249-98C3-42DE-8460-65E424D0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240C66-BA7A-4CD1-B63E-C7ED0512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F1DEC6-EE90-4A6F-9581-67291D94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3F2393-07BB-4657-A1A3-C5E6937C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4E8BC-9C49-42C1-B44C-DA94C746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FA5BD1-C0B5-470A-A821-A527B40C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0212C8-52F0-4000-AB39-6300EC21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2C3CD7-1272-4A40-9A76-43962528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4551C9-7DED-4942-B376-3A5EF7C1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F37F96-77A9-48CE-BC95-3DE30304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016719-1D73-4631-A69B-A5F63CA7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52037F-3FB5-4690-A96A-D97546F1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7D0562-037A-4D85-85EE-52289E0A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F137F1-EA9E-4404-A080-FF8AC3B0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C3CC4B-641B-40D7-91C7-0544F79B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077A1-C5F2-4D0F-B5A7-5631E4A0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418D60-546E-4E38-95B7-489F48BA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0EA815-36D5-4789-809A-558A9E35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8E7F6B-0D48-451A-B43C-F9C84F54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497326-A467-4B81-AD76-E1A61C85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FE506C-3D00-4510-8738-177CB85E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C0DAC3-2EB8-48F8-B63F-4F3D6C19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7DD0FC-57B6-4352-BF5B-CC5063E9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CDB149-269E-4CF1-BAC8-6AAAD21E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FAD6F5-E92F-4FE5-9FE9-53AC49A1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B10AF8-EB06-4B34-B02C-A183735F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10A5-AE77-41A4-A60A-BAC33E64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BF2869-36C2-4734-BBFC-57C4E840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E38CE1-B961-4F98-AB32-A7A56BCC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219964-65BC-4855-87AE-84DFD8C9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D174DE-FF9F-44A2-AFD9-8A5FF171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3BED63-F077-433E-836D-82EC5615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28C56C-4CE4-40CF-B5DD-C2748B2E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F45352-FCA6-43B9-AA0F-DDAF2B7C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C47343-6E22-41F9-9843-2AC63F1F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FD4301-CC4A-420A-80C0-B66F596C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599306-4ABC-42C3-BE55-3FE8B935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2DA5A-C391-4E29-9896-14995110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54E7AE-1AFA-4E9E-AB6C-C5022AE4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8CCC85-EE9B-4731-8E2B-4505A059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8C0F4C-D4FA-455A-B54B-4DBBC88D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56CAEC-E2F3-4394-AE3D-015A3A89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04EEEF-6409-4CC4-AB61-CFDCDCCC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89B2ED-75E1-4EA9-8DD3-5A1DEAC2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DC0063-1788-4AAC-80DE-EE262BD2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2AD77E-4E81-4FAB-91B4-AE162280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158B78-CEAC-4007-A998-865D8B55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4B9C7F-2337-4D91-8500-0B8F6E51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513E-D62D-4087-BCB8-B6766BB6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904D27-CF53-4F0D-9960-3064D8AB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FF6444-6A5C-4A44-82D2-5FB751CF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6BE2B1-A755-41C5-B7C9-55300720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4FC4A0-CB05-4C72-93A0-66BACEFF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FC20A7-82F4-4AC1-965C-C8FF52B8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87B667-825D-4BB5-91D1-4B6B7A56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4FD5EE-E9D8-4B65-989F-BAC901BD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543F52-8805-4277-8BCC-B87C51AF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C412F1-8B87-4A1A-B598-CA41105B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41B975-2EB5-41A3-B282-BBF85900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E9BC6-4095-427B-8424-15B8F902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8A442F-CB4F-4B2A-A297-B704D8E9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AD1DB5-289E-4A50-8732-3AD44986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DA85F8-B894-48D0-B763-E8F7ABF0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0B0228-3910-4D3B-A9FF-02C08180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418961-99D4-4DF0-9DAF-0EED9EF1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25C238-1505-48B1-BA9B-6E983082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69DA03-0DE6-429F-8002-27053226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888AA9-3928-4C09-A7B1-44CA1005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E7BF6F-8C46-42ED-9B69-0B2390C6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14A934-49DD-44A8-86B1-358A54BD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6BF0E-982C-45D5-9030-5C440ED3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42547F-51B7-4342-BB4F-6CC0D306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B249B7-5957-48EA-96C4-D0BD4EA2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9F4133-2399-4775-AA08-1EF4B5E9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DD55FB-6EFB-4E32-928B-D677B2AC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E7D037-3191-4780-B30A-B9DEABC6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3D291D-BC3B-479B-8261-2648723A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639D48-306C-4B28-A958-5F766443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1DEB8D-E1A4-46B9-B9F2-1DAD92A4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008577-ADD2-452C-B2AC-7C3E4AD7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E8BB34-DBD0-4F69-BB45-67DB4758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A7C3-0279-4BE6-AF4E-89BEE151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F05AAF-AEEB-4112-B47B-E21A5A19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F621C3-09F6-443C-944F-765F2BED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C3AD62-EA7A-4DCB-BAB0-B80C758A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116490-47CC-4B19-9029-03B3B8EC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D018C6-F22D-4401-BCBD-6A9C8114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3E3896-340C-49FD-8D16-E6275720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2B7496-0DD4-49EC-A257-A5FF6ABF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EBD74D-0844-4E9F-A911-583EC00C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9B9347-85AD-4AC3-91DB-73DC6ECB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C3CD32-2EBC-4977-B688-8E111C6E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E9128-95D9-4B1C-859C-364F5969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A58183-6424-4FAC-A50A-E26224AF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3C1E06-EDCE-4CA8-8421-41850126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471432-4032-47B8-BBD5-BF1C26ED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9546EC-8ECF-4D26-945C-6366DCFE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15A795-1EBF-4F88-A5BE-A7261F4E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86193E-FDA0-419A-9BA5-16B9FA92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08C29E-3739-4C9E-8C66-BFA39E5B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BB5462-7963-48F8-BEC4-E0DB936C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B1B423-3BA0-438D-B442-7475CFA1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B0990D-475A-4C8C-A00B-F9A9DE9D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1DA-5180-4C92-949B-4E35C4B8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9439A-B4DD-4D18-AC7A-1B0B0EE3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154A84-71AE-4744-AD51-68D85932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A51F32-5003-4372-A39E-232930FE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0EA218-F935-4239-9A1B-0AC34A0A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FA5AF8-9593-41EF-8B29-243EEE3C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E3BA8E-3D0C-4688-A2CF-7965FC86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E6AB51-A37C-4068-85EB-5E836BEE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70ED7D-13F7-49F2-B9EF-1F70CEA1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B991560-D0D7-4302-8AD4-4E284EBB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B51E5F-9ADE-4B84-A159-A11CB367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BEF567-D624-491F-8314-001147E2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F2778-DCAF-4190-9E22-2CEAB73D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8FD478-2AA2-43E7-9B62-DDC03BA3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7BCF79-DF46-4FEC-B0FF-2BE864FA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96453E-990A-4208-AAA5-F88F3627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4A4073-B3BD-4A80-A393-C949D3C7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FE06E0-6D67-48E6-A2A2-07A6A700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898D4D-7B16-4E69-A765-CDECA9A2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B6D3D8-C27D-4A4D-84C0-DDE53584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F3EFF3-1093-4544-A73B-6AA70387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8B8BCA-4916-4B1A-8556-539F45B3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5FC320-3A7F-4FAD-8FA8-B069AB6B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56FAF-79D8-4DAB-8116-1EEADAF1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FC4583-8B8A-4BA1-8C8D-CDDA8EF8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D43B46-223F-44CB-826B-0012EEA4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1472D4-55A7-44DF-817F-8CB00AAD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8C890E-A7A4-4BB2-98AE-0C42678A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DCFE32-A82D-415F-A45D-B75FCC45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B928A5-3DDF-497A-AE15-0826E4AB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876838-7FE3-497E-A77F-A6A5DBB4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8545D3-4F40-4757-9D7F-30EE0375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466DB0-021C-4DA4-A7A6-849E8E4B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8A66DD-D254-41B0-9D24-2E458875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99A06-90B0-4FFA-B8C5-4C157386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7E92B8-F37D-4641-B8F2-E1062529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971888-C1B5-4DFA-B5DA-86EF979C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C4954A-6810-4414-A1A2-E989042F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1529228-2E32-4B37-B551-EF6CDC37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4776148-F0C5-4D16-B822-5CC2111B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3610BA-BF4B-4AFF-8B71-C156FC98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B1202A-51DB-4B2F-9E75-70479B9C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81B3CAA-70D8-472D-92CD-34A65183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EF36032-AC3F-4BDC-A577-3C28BBFA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A50C33-701C-4806-9433-D39A395D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FF43C-35D2-40CA-9FF4-AEA94C23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C99341-A5C9-46FF-9488-58F64E3D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B5A014-6D3E-4D33-AFC2-E76AF318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5F7297-1B59-45F5-A40E-1D286DAE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774821-B201-40DB-83EC-5C3D03DA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372390-3AF8-4340-A089-EE8DB969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26C5733-C7AD-4EF4-88D9-94C2177E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7410A23-810D-499B-B2E6-FD7C6902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9DD8936-2303-4F37-8F3B-6EEC39D7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A3D07B-C5D6-424B-BB97-0B171423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08AC3B8-D3A4-4E00-BB65-8C073E7B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FDCED-8CE3-4988-B41F-BE20D33A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AFF50A-4BA5-4CEB-99FD-D9DE2462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CBD10F1-C73D-491A-A0B2-53EBF316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91D9AB7-60D6-4272-9EE1-4DD105E6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796562-56AD-43D5-9F62-9547931D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205B0C5-EA15-4680-82B3-A48F9462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1F44163-7A6F-48AF-B940-E00DDD36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E83265A-4DDB-45B3-BCD5-CDE1FCEA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80208-FA35-4B33-8AB9-A723E430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DA5F5-2C6E-4D17-BF8B-B6C49C2C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00F76-A448-4047-BC59-F418BFA7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2F8F2-438E-42CA-822F-E0D66D03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CDB-91A1-4F64-9A39-54AFA374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4DB0A-5C5C-4FA6-A8B7-D26FD6E9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4B405-1196-4F59-B5B1-8EE07612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C8646-A648-410E-8742-217EEB00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AC767-1678-4B66-B37D-5AA689B1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019C7-6708-4944-BCF7-3DE36CE6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BD17A-EC71-47A5-A27B-7EDE7288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7CE1F-0430-494E-A447-20BDD836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C7FED-344F-4083-808E-2090FD46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3F233-D80B-4269-9E29-01436D63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8A1B2-02CD-4B0D-85EC-126BC187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3E8-475A-44C5-AEF8-4ACC2449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ABA54-123C-41CE-B07B-0EA6FD4B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001EC-E2A3-4F66-B229-E77756B6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C0BF9-7405-4A64-B423-3425C25A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9A3E1-9E95-45F3-81C2-A20D2051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C227C-5791-4348-BE6D-B2F7ED0F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27BF5-6242-4052-A126-C56FD5D9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137ED-4B1C-47FA-9694-47038D1B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C9608-B785-405F-AC10-59134951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7F1BE-6E86-4B64-9561-5F5DBAD9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B1F2C-8CCA-4EF3-9611-D703C20E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60F8-45FB-4FA0-BF16-8772A6C3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CCA8C-97B7-4019-A436-B9DDBFCE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3702B-8140-47CD-BAB7-F9B603A6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A3D32-2B0F-4EC2-9937-9BAA6C16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913E7-22CB-404A-B3F2-547510C5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294CF-CE9E-46B1-BC66-F1918F7B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ABDBC-C145-4B6A-A3AF-53D3F6E0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F0059-3F96-4281-935A-BF3CBE0C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E859D-17D0-4E88-BAFF-A5D4EDAA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C67D9-C4ED-49F1-B53F-367DA81E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ABFE0-25CC-419E-8600-BBD9C3CB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DF65-55FF-484A-9284-1C608DE2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2E656-9DAB-4BE1-B855-2DF5671C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50191-06CC-4B2F-A2FD-8BDCFA52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4283E-FDC7-4AEB-ABEC-5DC5126B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5AC35-686D-4A55-87DF-06ADF10D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6F56E-56B3-49D1-8843-937DB115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A17A4-C591-431C-A6A9-E99D4C42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80D4C-5259-47B6-9C79-8B68163E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52EB6-C697-4B74-BFD5-AFC9C879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D3F83-3142-4B30-8FEE-49454004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22653-93AC-4FB0-9AA8-A1C4AD5C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832-9528-4AB6-8701-FEB1E0A1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48EC1-9632-4A14-B761-80C0D6E4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5E6B9-338E-4681-BFB9-88A95BBA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915C1-2465-4D14-BB62-28D04954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43FAF-83C7-4D63-9D0B-A9C1E29A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E266E-9FB4-4BF5-A601-7238A53E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99DBF-CAFD-488B-8401-DD6E58C9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9830A-E141-40FA-9891-852E55B7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78435-8DE8-415E-8437-BDF11511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0A334-7F4B-42EF-B1A2-445536C9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A0A62-D14B-47EB-8CE6-DBD9B6C0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8D1E-C58A-4B6A-B8E0-F9D7F28A3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F661-9554-4612-AEA6-B5398D1A8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317D-8236-463C-BA34-4479CFDC9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38EF-D940-47EB-B4DA-158DEA0D8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6905-8E16-4E5C-9A4C-4772CBCFF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5046-5467-4B23-A4AA-CD4D54BB1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58DD-C968-481C-8730-AEBE04EA5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587E-0EB3-49F6-A880-14E0286AA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04B7-51B2-41BD-B3B5-800E4C4AB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A61E-8B1A-4F6D-8968-916BA85E7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55C6-E377-4D35-B4B8-265385EE3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C9AF-69A4-4227-A4E1-75DD2EB57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F573-DF89-47B8-BCF6-A9AF8EB24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F032-F137-4A33-8685-BCEFFE38D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7DAF-3C4D-4CFB-B497-DAE39D06A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C883-9550-4F1B-8F39-27B94DB04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256E-0E9B-47CE-8293-C3385F227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395D-F9AC-4D6E-A50B-9C48FD8E0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53F8-2F93-4435-A51A-C27F82C0B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94C1-AB52-429A-A99E-1E5BBEF18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DD23-B2DE-4B6C-B9B4-484F034FF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FF53-B667-463B-98B8-4EF5B1FEC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C878-9FFF-4E84-85A2-AF235E8B7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776D-CF80-4F1A-BA56-27BAEB1AB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6922-0E5F-4C02-8487-1AEE3374B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E8B1-6FEA-44E6-8B3F-1ED82D82E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E934-848B-4FC6-85B6-88EF2E8F7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7B84-5AC2-4A15-A83E-41AE1882A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CD13-DBC0-4111-80BA-B8DAAA78C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7822-5A00-4BB6-91E2-8FF8E0852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D666-B555-439E-B98E-DF8ABCD4E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4146-9B77-48EC-9596-76247E993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BD71-E58A-45BF-9FD2-2136C0087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A3C2-A3D9-440C-924E-CA66856E7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9F68-ED12-4C0D-864E-80D722A5A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1ED2-EB2C-4188-B095-B1266F380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6ECF-7A18-4CEF-86A6-33F0268EA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0AB7-D8A4-49F4-A413-2284357E9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du.pe.ca/southernkings/landforms.htm" TargetMode="External"/><Relationship Id="rId5" Type="http://schemas.openxmlformats.org/officeDocument/2006/relationships/hyperlink" Target="http://members.enchantedlearning.com/geography/landforms/glossary.shtml?p" TargetMode="External"/><Relationship Id="rId6" Type="http://schemas.openxmlformats.org/officeDocument/2006/relationships/hyperlink" Target="http://www.google.com/earth/index.html" TargetMode="External"/><Relationship Id="rId7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4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 Box 4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9-19 &amp; 20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Mystery Island Project Due Friday      *Geo. Terms Test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25"/>
          <p:cNvSpPr/>
          <p:nvPr/>
        </p:nvSpPr>
        <p:spPr>
          <a:xfrm>
            <a:off x="0" y="990720"/>
            <a:ext cx="3962520" cy="3683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9-19 &amp; 20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land formed at the mouth of  a river by deposits of silt, sand, and pebb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narrow strip of land bordered by water, that connects two larger bodies of 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narrow waterway connecting two larger bodies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34"/>
          <p:cNvSpPr/>
          <p:nvPr/>
        </p:nvSpPr>
        <p:spPr>
          <a:xfrm>
            <a:off x="251460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35"/>
          <p:cNvSpPr/>
          <p:nvPr/>
        </p:nvSpPr>
        <p:spPr>
          <a:xfrm>
            <a:off x="3021120" y="29383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isth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36"/>
          <p:cNvSpPr/>
          <p:nvPr/>
        </p:nvSpPr>
        <p:spPr>
          <a:xfrm>
            <a:off x="1295280" y="3886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t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Picture 45" descr="green isthmus"/>
          <p:cNvPicPr/>
          <p:nvPr/>
        </p:nvPicPr>
        <p:blipFill>
          <a:blip r:embed="rId1"/>
          <a:srcRect l="0" t="21801" r="10001" b="14382"/>
          <a:stretch/>
        </p:blipFill>
        <p:spPr>
          <a:xfrm>
            <a:off x="0" y="4237200"/>
            <a:ext cx="5486400" cy="2620800"/>
          </a:xfrm>
          <a:prstGeom prst="rect">
            <a:avLst/>
          </a:prstGeom>
          <a:ln w="0">
            <a:noFill/>
          </a:ln>
        </p:spPr>
      </p:pic>
      <p:pic>
        <p:nvPicPr>
          <p:cNvPr id="1564" name="Picture 47" descr="Strait_of_gibraltar"/>
          <p:cNvPicPr/>
          <p:nvPr/>
        </p:nvPicPr>
        <p:blipFill>
          <a:blip r:embed="rId2"/>
          <a:stretch/>
        </p:blipFill>
        <p:spPr>
          <a:xfrm>
            <a:off x="5465880" y="3581280"/>
            <a:ext cx="3678120" cy="3810240"/>
          </a:xfrm>
          <a:prstGeom prst="rect">
            <a:avLst/>
          </a:prstGeom>
          <a:ln w="0">
            <a:noFill/>
          </a:ln>
        </p:spPr>
      </p:pic>
      <p:pic>
        <p:nvPicPr>
          <p:cNvPr id="1565" name="Picture 49" descr="delta"/>
          <p:cNvPicPr/>
          <p:nvPr/>
        </p:nvPicPr>
        <p:blipFill>
          <a:blip r:embed="rId3"/>
          <a:stretch/>
        </p:blipFill>
        <p:spPr>
          <a:xfrm>
            <a:off x="3886200" y="1033560"/>
            <a:ext cx="52578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4" name="Picture 1026" descr="Fr-island"/>
          <p:cNvPicPr/>
          <p:nvPr/>
        </p:nvPicPr>
        <p:blipFill>
          <a:blip r:embed="rId1"/>
          <a:stretch/>
        </p:blipFill>
        <p:spPr>
          <a:xfrm>
            <a:off x="685800" y="609480"/>
            <a:ext cx="8001000" cy="5872320"/>
          </a:xfrm>
          <a:prstGeom prst="rect">
            <a:avLst/>
          </a:prstGeom>
          <a:ln w="0">
            <a:noFill/>
          </a:ln>
        </p:spPr>
      </p:pic>
      <p:sp>
        <p:nvSpPr>
          <p:cNvPr id="1585" name="Text Box 1027"/>
          <p:cNvSpPr/>
          <p:nvPr/>
        </p:nvSpPr>
        <p:spPr>
          <a:xfrm>
            <a:off x="4267080" y="1295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028"/>
          <p:cNvSpPr/>
          <p:nvPr/>
        </p:nvSpPr>
        <p:spPr>
          <a:xfrm flipH="1">
            <a:off x="3504960" y="1981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oup or chain of islands clustered together in a sea or ocean that runs through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Picture 3" descr="bd00028_"/>
          <p:cNvPicPr/>
          <p:nvPr/>
        </p:nvPicPr>
        <p:blipFill>
          <a:blip r:embed="rId1"/>
          <a:stretch/>
        </p:blipFill>
        <p:spPr>
          <a:xfrm>
            <a:off x="2819520" y="3429000"/>
            <a:ext cx="30985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rchipelag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0" name="Picture 7" descr="The World Archipelago, Persian Gulf"/>
          <p:cNvPicPr/>
          <p:nvPr/>
        </p:nvPicPr>
        <p:blipFill>
          <a:blip r:embed="rId1"/>
          <a:stretch/>
        </p:blipFill>
        <p:spPr>
          <a:xfrm>
            <a:off x="3733920" y="2362320"/>
            <a:ext cx="4647960" cy="403848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9" descr="Click to show &quot;archipelago&quot; result 4"/>
          <p:cNvPicPr/>
          <p:nvPr/>
        </p:nvPicPr>
        <p:blipFill>
          <a:blip r:embed="rId2"/>
          <a:stretch/>
        </p:blipFill>
        <p:spPr>
          <a:xfrm>
            <a:off x="990720" y="2133720"/>
            <a:ext cx="2286000" cy="373356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5" descr="http://members.enchantedlearning.com/agifs/archipelago.GIF"/>
          <p:cNvPicPr/>
          <p:nvPr/>
        </p:nvPicPr>
        <p:blipFill>
          <a:blip r:embed="rId3"/>
          <a:stretch/>
        </p:blipFill>
        <p:spPr>
          <a:xfrm>
            <a:off x="6858000" y="838080"/>
            <a:ext cx="12002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3" name="WordArt 5" descr=""/>
          <p:cNvPicPr/>
          <p:nvPr/>
        </p:nvPicPr>
        <p:blipFill>
          <a:blip r:embed="rId1"/>
          <a:stretch/>
        </p:blipFill>
        <p:spPr>
          <a:xfrm>
            <a:off x="835200" y="828720"/>
            <a:ext cx="717516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4" name="Picture 9" descr="http://floridagulfofmexico.com/images/gulfmap.jpg"/>
          <p:cNvPicPr/>
          <p:nvPr/>
        </p:nvPicPr>
        <p:blipFill>
          <a:blip r:embed="rId1"/>
          <a:stretch/>
        </p:blipFill>
        <p:spPr>
          <a:xfrm>
            <a:off x="1905120" y="1295280"/>
            <a:ext cx="7010280" cy="5029200"/>
          </a:xfrm>
          <a:prstGeom prst="rect">
            <a:avLst/>
          </a:prstGeom>
          <a:ln w="0">
            <a:noFill/>
          </a:ln>
        </p:spPr>
      </p:pic>
      <p:pic>
        <p:nvPicPr>
          <p:cNvPr id="1595" name="Rectangle 2" descr=""/>
          <p:cNvPicPr/>
          <p:nvPr/>
        </p:nvPicPr>
        <p:blipFill>
          <a:blip r:embed="rId2"/>
          <a:stretch/>
        </p:blipFill>
        <p:spPr>
          <a:xfrm>
            <a:off x="5389560" y="3139920"/>
            <a:ext cx="2936880" cy="114012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5" descr="http://members.enchantedlearning.com/ggifs/Gulf.GIF"/>
          <p:cNvPicPr/>
          <p:nvPr/>
        </p:nvPicPr>
        <p:blipFill>
          <a:blip r:embed="rId3"/>
          <a:stretch/>
        </p:blipFill>
        <p:spPr>
          <a:xfrm>
            <a:off x="1143000" y="914400"/>
            <a:ext cx="12002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WordArt 3"/>
          <p:cNvSpPr txBox="1"/>
          <p:nvPr/>
        </p:nvSpPr>
        <p:spPr>
          <a:xfrm>
            <a:off x="1371600" y="1447920"/>
            <a:ext cx="5943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Lucida Calligraphy"/>
              </a:rPr>
              <a:t>What is… 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lligraphy"/>
              <a:ea typeface="Lucida Calligraph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1599" name="Rectangle 4"/>
          <p:cNvSpPr/>
          <p:nvPr/>
        </p:nvSpPr>
        <p:spPr>
          <a:xfrm>
            <a:off x="2286000" y="2666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Calligraphy"/>
              </a:rPr>
              <a:t>A body of land that is surrounded by water on three s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0" name="Picture 9" descr="http://upload.wikimedia.org/wikipedia/commons/thumb/f/f6/Satellite_image_of_Italy_in_March_2003.jpg/250px-Satellite_image_of_Italy_in_March_2003.jpg"/>
          <p:cNvPicPr/>
          <p:nvPr/>
        </p:nvPicPr>
        <p:blipFill>
          <a:blip r:embed="rId1"/>
          <a:stretch/>
        </p:blipFill>
        <p:spPr>
          <a:xfrm>
            <a:off x="457200" y="1447920"/>
            <a:ext cx="4952880" cy="4047840"/>
          </a:xfrm>
          <a:prstGeom prst="rect">
            <a:avLst/>
          </a:prstGeom>
          <a:ln w="0">
            <a:noFill/>
          </a:ln>
        </p:spPr>
      </p:pic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WordArt 3"/>
          <p:cNvSpPr txBox="1"/>
          <p:nvPr/>
        </p:nvSpPr>
        <p:spPr>
          <a:xfrm>
            <a:off x="1219320" y="914400"/>
            <a:ext cx="655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Goudy Stout"/>
              </a:rPr>
              <a:t>A Peninsul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Goudy Stout"/>
              <a:ea typeface="Goudy Stout"/>
            </a:endParaRPr>
          </a:p>
        </p:txBody>
      </p:sp>
      <p:pic>
        <p:nvPicPr>
          <p:cNvPr id="1603" name="Picture 6" descr="ag00037_"/>
          <p:cNvPicPr/>
          <p:nvPr/>
        </p:nvPicPr>
        <p:blipFill>
          <a:blip r:embed="rId2"/>
          <a:stretch/>
        </p:blipFill>
        <p:spPr>
          <a:xfrm>
            <a:off x="5257800" y="2743200"/>
            <a:ext cx="1303200" cy="1714680"/>
          </a:xfrm>
          <a:prstGeom prst="rect">
            <a:avLst/>
          </a:prstGeom>
          <a:ln w="0">
            <a:noFill/>
          </a:ln>
        </p:spPr>
      </p:pic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cc00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228240" y="16002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Script MT Bold"/>
              </a:rPr>
              <a:t>What is a narrow strip of land connecting two larger landmasses. It  has water on two sid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6" name="Picture 7" descr="http://upload.wikimedia.org/wikipedia/commons/thumb/8/81/Pm-map.png/450px-Pm-map.png"/>
          <p:cNvPicPr/>
          <p:nvPr/>
        </p:nvPicPr>
        <p:blipFill>
          <a:blip r:embed="rId1"/>
          <a:stretch/>
        </p:blipFill>
        <p:spPr>
          <a:xfrm>
            <a:off x="1447920" y="609480"/>
            <a:ext cx="6400800" cy="4705560"/>
          </a:xfrm>
          <a:prstGeom prst="rect">
            <a:avLst/>
          </a:prstGeom>
          <a:ln w="0">
            <a:noFill/>
          </a:ln>
        </p:spPr>
      </p:pic>
      <p:sp>
        <p:nvSpPr>
          <p:cNvPr id="16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1028"/>
          <p:cNvSpPr/>
          <p:nvPr/>
        </p:nvSpPr>
        <p:spPr>
          <a:xfrm>
            <a:off x="2743200" y="304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wcard Gothic"/>
              </a:rPr>
              <a:t>An Isth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029"/>
          <p:cNvSpPr/>
          <p:nvPr/>
        </p:nvSpPr>
        <p:spPr>
          <a:xfrm>
            <a:off x="4648320" y="91440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Picture 2" descr=""/>
          <p:cNvPicPr/>
          <p:nvPr/>
        </p:nvPicPr>
        <p:blipFill>
          <a:blip r:embed="rId2"/>
          <a:stretch/>
        </p:blipFill>
        <p:spPr>
          <a:xfrm>
            <a:off x="-12600" y="3986280"/>
            <a:ext cx="29019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129528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Showcard Gothic"/>
              </a:rPr>
              <a:t>What is a narrow body of water that connects two larger bodies of wa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Rectangle 3"/>
          <p:cNvSpPr/>
          <p:nvPr/>
        </p:nvSpPr>
        <p:spPr>
          <a:xfrm>
            <a:off x="39384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6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279900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2" descr="C:\Documents and Settings\sramsey\Local Settings\Temporary Internet Files\Content.IE5\FY2OJR7E\MC900438074[1].png"/>
          <p:cNvPicPr/>
          <p:nvPr/>
        </p:nvPicPr>
        <p:blipFill>
          <a:blip r:embed="rId3"/>
          <a:stretch/>
        </p:blipFill>
        <p:spPr>
          <a:xfrm>
            <a:off x="3200400" y="3352680"/>
            <a:ext cx="2743200" cy="2438640"/>
          </a:xfrm>
          <a:prstGeom prst="rect">
            <a:avLst/>
          </a:prstGeom>
          <a:ln w="0">
            <a:noFill/>
          </a:ln>
        </p:spPr>
      </p:pic>
      <p:sp>
        <p:nvSpPr>
          <p:cNvPr id="1568" name="Rectangle 3"/>
          <p:cNvSpPr/>
          <p:nvPr/>
        </p:nvSpPr>
        <p:spPr>
          <a:xfrm>
            <a:off x="6019920" y="3886200"/>
            <a:ext cx="25146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lick here for pictures of 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4"/>
          <p:cNvSpPr/>
          <p:nvPr/>
        </p:nvSpPr>
        <p:spPr>
          <a:xfrm>
            <a:off x="152280" y="3962520"/>
            <a:ext cx="28958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lick here for a glossary of 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5"/>
          <p:cNvSpPr/>
          <p:nvPr/>
        </p:nvSpPr>
        <p:spPr>
          <a:xfrm>
            <a:off x="3124080" y="5791320"/>
            <a:ext cx="28195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google.com/earth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3" name="Picture 6" descr="http://upload.wikimedia.org/wikipedia/commons/thumb/c/cf/Strait_of_gibraltar.jpg/300px-Strait_of_gibraltar.jpg"/>
          <p:cNvPicPr/>
          <p:nvPr/>
        </p:nvPicPr>
        <p:blipFill>
          <a:blip r:embed="rId1"/>
          <a:stretch/>
        </p:blipFill>
        <p:spPr>
          <a:xfrm>
            <a:off x="3200400" y="914400"/>
            <a:ext cx="5486400" cy="3876840"/>
          </a:xfrm>
          <a:prstGeom prst="rect">
            <a:avLst/>
          </a:prstGeom>
          <a:ln w="0">
            <a:noFill/>
          </a:ln>
        </p:spPr>
      </p:pic>
      <p:sp>
        <p:nvSpPr>
          <p:cNvPr id="1614" name="WordArt 3"/>
          <p:cNvSpPr txBox="1"/>
          <p:nvPr/>
        </p:nvSpPr>
        <p:spPr>
          <a:xfrm>
            <a:off x="304920" y="304920"/>
            <a:ext cx="2895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ra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5" name="Line 4"/>
          <p:cNvSpPr/>
          <p:nvPr/>
        </p:nvSpPr>
        <p:spPr>
          <a:xfrm>
            <a:off x="2057400" y="1981080"/>
            <a:ext cx="2971800" cy="17528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WordArt 2"/>
          <p:cNvSpPr txBox="1"/>
          <p:nvPr/>
        </p:nvSpPr>
        <p:spPr>
          <a:xfrm>
            <a:off x="2362320" y="609480"/>
            <a:ext cx="487656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What i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1617" name="WordArt 3"/>
          <p:cNvSpPr txBox="1"/>
          <p:nvPr/>
        </p:nvSpPr>
        <p:spPr>
          <a:xfrm>
            <a:off x="914400" y="2133720"/>
            <a:ext cx="7696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stream  or  river  that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f lows into a larger river.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8" name="Picture 7" descr="File:Glomma meets tributary Vorma.JPG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1619" name="Text Box 1027"/>
          <p:cNvSpPr/>
          <p:nvPr/>
        </p:nvSpPr>
        <p:spPr>
          <a:xfrm>
            <a:off x="1295280" y="20574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1028"/>
          <p:cNvSpPr/>
          <p:nvPr/>
        </p:nvSpPr>
        <p:spPr>
          <a:xfrm>
            <a:off x="1066680" y="15238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"/>
              </a:rPr>
              <a:t>A Tribut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029"/>
          <p:cNvSpPr/>
          <p:nvPr/>
        </p:nvSpPr>
        <p:spPr>
          <a:xfrm>
            <a:off x="2057400" y="2438280"/>
            <a:ext cx="1752480" cy="2057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WordArt 4"/>
          <p:cNvSpPr txBox="1"/>
          <p:nvPr/>
        </p:nvSpPr>
        <p:spPr>
          <a:xfrm>
            <a:off x="990720" y="1219320"/>
            <a:ext cx="6738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What is part of a lar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body of water th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extends into land 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and is smaller than a gulf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2" name="Picture 5" descr="indian-head-b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3" name="WordArt 6"/>
          <p:cNvSpPr txBox="1"/>
          <p:nvPr/>
        </p:nvSpPr>
        <p:spPr>
          <a:xfrm>
            <a:off x="2209680" y="2971800"/>
            <a:ext cx="93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rge natural stream of water that runs through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5" name="Picture 3" descr="bd00028_"/>
          <p:cNvPicPr/>
          <p:nvPr/>
        </p:nvPicPr>
        <p:blipFill>
          <a:blip r:embed="rId1"/>
          <a:stretch/>
        </p:blipFill>
        <p:spPr>
          <a:xfrm>
            <a:off x="2819520" y="3429000"/>
            <a:ext cx="30985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iv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7" name="Picture 3" descr="river"/>
          <p:cNvPicPr/>
          <p:nvPr/>
        </p:nvPicPr>
        <p:blipFill>
          <a:blip r:embed="rId1"/>
          <a:stretch/>
        </p:blipFill>
        <p:spPr>
          <a:xfrm>
            <a:off x="1219320" y="1676520"/>
            <a:ext cx="6686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What is a large body of water that is completely surrounded by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9" name="Picture 2" descr="Maxwell%2520Bay%2520Lake%2520View%252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0" name="Text Box 3"/>
          <p:cNvSpPr/>
          <p:nvPr/>
        </p:nvSpPr>
        <p:spPr>
          <a:xfrm>
            <a:off x="2209680" y="18288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ckwell Extra Bold"/>
              </a:rPr>
              <a:t>L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4"/>
          <p:cNvSpPr/>
          <p:nvPr/>
        </p:nvSpPr>
        <p:spPr>
          <a:xfrm>
            <a:off x="3124080" y="2590920"/>
            <a:ext cx="1524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Text Box 1026"/>
          <p:cNvSpPr/>
          <p:nvPr/>
        </p:nvSpPr>
        <p:spPr>
          <a:xfrm>
            <a:off x="1508040" y="118440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1027"/>
          <p:cNvSpPr/>
          <p:nvPr/>
        </p:nvSpPr>
        <p:spPr>
          <a:xfrm>
            <a:off x="1371600" y="28954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body of land completely surrounded by w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3:50:16Z</dcterms:created>
  <dc:creator>STUDENT</dc:creator>
  <dc:description/>
  <dc:language>en-US</dc:language>
  <cp:lastModifiedBy>poweruser</cp:lastModifiedBy>
  <dcterms:modified xsi:type="dcterms:W3CDTF">2011-09-19T12:44:39Z</dcterms:modified>
  <cp:revision>31</cp:revision>
  <dc:subject/>
  <dc:title>Slide 1</dc:title>
</cp:coreProperties>
</file>